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7FB-C61F-4711-A3F8-48F3D191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E62-A17E-4530-85DD-E98044AC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F1A-5723-4ADF-AA91-A44E52F2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B98-073D-46FE-A01A-49E56D89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BA6E-8077-4527-BF41-CFC46886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7172-A712-4BB1-BC56-D69DDDF4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A0B3-D6C6-4A76-8544-3EA073DC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A084-BEAE-4D8F-8017-33A529CE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2F4A-9B16-4572-B48B-FF79C30A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5E67-8954-474C-BF48-A3A07B13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439B-F2BD-40C6-A145-4F02C126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C8E-F414-42EE-8CCB-7CE83804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12AF-4FDA-42A0-AD5A-9F261712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2E1A-13FA-4924-9F91-88776AA1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70D2-4302-4C3F-BBDA-5C4E9983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0C49-A30B-47FE-B071-2CBDED1A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03C3-A4F0-4A0D-908D-4874C4D3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BDEF-49CD-467A-A84D-9CF57C8A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43C-58D8-44F9-9400-258C9F36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FE93-0D2F-420A-A8B6-D5D1D8C9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CC1-DC63-4A25-9C7C-7ED570EE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51B-5A35-4FF6-AA6E-3BAECC22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9FE-A3F5-4E1F-B77F-1778DCB1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40D-AF0F-43CB-B9A1-896B1CB9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75DA-1994-4867-94B9-A31EF8D373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5B86-0499-49E5-9A90-E136D808B6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Safety in the Science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Let’s look at signs of dan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Why do labs need sig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What does this me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11280" y="2060640"/>
            <a:ext cx="4824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What about this sig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411280" y="2060640"/>
            <a:ext cx="49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What does corrosive me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340000" y="1989000"/>
            <a:ext cx="496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What type of chemicals need this sig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71640" y="2060640"/>
            <a:ext cx="4537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What does this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43280" y="2060640"/>
            <a:ext cx="4465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Does this apply here to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700360" y="1989000"/>
            <a:ext cx="460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Can this happen to me?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979640" y="1989000"/>
            <a:ext cx="604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So what sign do we ne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e4a8"/>
                </a:solidFill>
                <a:latin typeface="Tahoma"/>
              </a:rPr>
              <a:t>Design and make a sign to warn of a possible danger here in the science lab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08:24:16Z</dcterms:created>
  <dc:creator>Admin </dc:creator>
  <dc:description/>
  <dc:language>en-US</dc:language>
  <cp:lastModifiedBy>Admin </cp:lastModifiedBy>
  <dcterms:modified xsi:type="dcterms:W3CDTF">2005-01-12T08:38:58Z</dcterms:modified>
  <cp:revision>7</cp:revision>
  <dc:subject/>
  <dc:title>Safety in the Science Lab</dc:title>
</cp:coreProperties>
</file>